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94E5-AFAB-45B0-A076-77515F75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B63F-AA4F-49A5-9B64-5228C2B7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E2B-2389-4A6F-B297-708E34FE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968F-6AA1-48C6-A0D2-0C83D165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6F51-32B6-4AE1-99DF-5796C6FE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5AC8-DF3D-4051-9D4B-604A1F3D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46CC-BDBA-4C89-B1AE-1C5A39F7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E21C-A999-486F-8F63-ED2577D2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D77F-B410-4A2E-A3FF-871AAD48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02FF-EA25-44DA-9044-7ACA6821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1C94-2DE5-4D6B-9DC7-7EDB8201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B4C-1988-42A7-9D6F-2F712716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E8C8-49B1-483E-9D3A-241B1B41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A482-6664-4047-8D1C-33BFE504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4B7D-A939-4D23-8957-06C8A4F3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32E2-7CB1-4254-AD96-D26A330C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3DDA-EAE4-4C4A-978E-B274B41C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AEDA-7D2F-4F5A-B8B0-10EB2DC7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989-A9D4-4D03-8BE4-DEE54BBF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384-7F72-4168-8881-844CCA21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26A-0E9E-4B42-8DBA-5446C076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804-AF24-4859-8FB1-F560834C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C950-F453-4D8F-B193-0ADF2724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D3E-B3F4-4A7E-BE8B-44CFD96F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a15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a15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20FA-F067-4B70-A50C-ADF9E42D16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a15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a15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2DA1-91CC-43EE-885B-96562BE6D0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Arial"/>
              </a:rPr>
              <a:t>Allie y Kaylee’s Tienda   </a:t>
            </a:r>
            <a:br>
              <a:rPr sz="4400"/>
            </a:br>
            <a:r>
              <a:rPr b="0" lang="en-US" sz="4400" spc="-1" strike="noStrike">
                <a:solidFill>
                  <a:srgbClr val="4e5b6f"/>
                </a:solidFill>
                <a:latin typeface="Arial"/>
              </a:rPr>
              <a:t> de ropa </a:t>
            </a: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Oufits_from_forever_21-_1"/>
          <p:cNvPicPr/>
          <p:nvPr/>
        </p:nvPicPr>
        <p:blipFill>
          <a:blip r:embed="rId1"/>
          <a:stretch/>
        </p:blipFill>
        <p:spPr>
          <a:xfrm>
            <a:off x="762120" y="1523880"/>
            <a:ext cx="2286000" cy="5010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3733920" y="1828800"/>
            <a:ext cx="459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a llev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ntal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gra, u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mi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is, blanca marron y negra 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zapa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iges. Ella lleva un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t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ges, u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intur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ron y un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lser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ancas y neg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811680" y="685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940120" y="1981080"/>
            <a:ext cx="58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men lleva un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sti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sada y roja. Ella llev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intu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arron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2857320" cy="4048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09360" y="7621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Ve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 rot="352800">
            <a:off x="804960" y="1447560"/>
            <a:ext cx="2089080" cy="4572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29000" y="1600200"/>
            <a:ext cx="56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a lleva un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mbr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anca, un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ė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na, un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uan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anca, un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pantal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lgod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685800"/>
            <a:ext cx="13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Invi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s7d1.scene7.com/is/image/anf/kids_60471?$anfKeylooksHero$"/>
          <p:cNvPicPr/>
          <p:nvPr/>
        </p:nvPicPr>
        <p:blipFill>
          <a:blip r:embed="rId1"/>
          <a:stretch/>
        </p:blipFill>
        <p:spPr>
          <a:xfrm>
            <a:off x="152280" y="1143000"/>
            <a:ext cx="2800440" cy="60199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2895480" y="1676520"/>
            <a:ext cx="524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il lleva un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aque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zul, un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mis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n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lue je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zul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ot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gras y un casu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fa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3583080" y="9144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O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http://www.polyvore.com/cgi/img-thing?.out=jpg&amp;size=l&amp;tid=22506948"/>
          <p:cNvPicPr/>
          <p:nvPr/>
        </p:nvPicPr>
        <p:blipFill>
          <a:blip r:embed="rId1"/>
          <a:stretch/>
        </p:blipFill>
        <p:spPr>
          <a:xfrm rot="20945400">
            <a:off x="372600" y="2074680"/>
            <a:ext cx="3006720" cy="4224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352680" y="2017800"/>
            <a:ext cx="430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ela lleva un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mbr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is-verde, un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rde y blanca, un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mi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anca y un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al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sada, morada y verd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31880" y="6094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rimav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239400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9880" y="1905120"/>
            <a:ext cx="395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cia lleva vestido blanca, un bolsa amarilla, roja, azul. Ella lleva zapatos amaril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94040" y="5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8:00:51Z</dcterms:created>
  <dc:creator>kaveneykay</dc:creator>
  <dc:description/>
  <dc:language>en-US</dc:language>
  <cp:lastModifiedBy>obrienall</cp:lastModifiedBy>
  <dcterms:modified xsi:type="dcterms:W3CDTF">2011-12-19T19:39:14Z</dcterms:modified>
  <cp:revision>376</cp:revision>
  <dc:subject/>
  <dc:title>Allie y Kaylee’s Tiende de ropa</dc:title>
</cp:coreProperties>
</file>